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6CC411-739F-422A-9808-6FA5A7E75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237ED9-FA82-401E-9161-523BEE76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0F5291-3FFC-42DC-9E51-DD5515B8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F76AB6-A628-45CA-B0BA-8793AACB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DB6E01-2FF5-4541-BC46-D6C1E6A7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1B5978-4D4A-4BC7-824C-4B0BD5B5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66E87A-9022-43E9-846A-B86F84F0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EB0BE1-E83C-4ACF-9184-FEBE6CE2C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35901F-452F-4266-BE0C-D968A29E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2D86E3-7C31-487C-BCE8-D21960D5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58B114-0226-4BCC-89BE-A1A473BC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4504D7-78A7-4403-8640-93BC65CD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920212-66F3-443D-991C-2A639057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F79961-2556-4C0A-887F-B841B993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AD1711-1A25-470C-8B62-9E97777F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116-C9C3-4AD3-AE40-5DCB940B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974-7BE8-4197-9CEE-CA9E74C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A85-BB09-4A3D-834C-7E584B2F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FE5-FFAF-49D8-BF15-7CC6F7BD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319-1F0F-4898-9779-40235F85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802-4051-4100-B6DA-E83F229A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78F6-856C-4E46-85AE-32C92ABA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A602-679C-4AB2-9AF8-B7E4F7C2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3DC1-B723-4BEB-96FC-CDC77EFB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870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75F9-F8E7-4C15-98C6-A4D66F6A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6FD-F07F-4E4D-A08C-185F67A1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1D3-D089-49BA-B3E7-3DC959A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8815-E7A6-4C24-B614-44F8CF9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7729-27EC-4E35-BDE5-787A273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8840-0932-4758-9DB6-2FC7B719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8DFA-C8AC-42A0-A7A5-0FA8C5A1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66F-63A8-4AA6-878E-912D925B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A1AB-EAEE-462D-AC39-CCEC89C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735D-063F-47AF-84CA-F44565FA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3C92-6089-4FB3-B4EE-57F71A3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96E1-4A45-4F90-81D9-A6DC3C89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C1AE2-A992-439D-9632-E0CAF895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29D-8DA9-42C5-BC01-A06B50E2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870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D095-0568-43A1-9A01-30332D44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768A-9141-4F5A-9E6A-7ECB2D4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F952-0B76-4658-9041-7092357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B3C4-92D0-4C68-92A0-82141F96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BFB1-4FBB-4D34-8077-89432C4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F95B-C8DA-4382-882E-B3DB5B07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BAA7-908C-476A-86E3-C80831AA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EF5-4516-41A0-A2B8-0331C2C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ABD-4C5F-4ADC-88C9-68D49B9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870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0DF-C31F-4D64-A630-9293DBC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EA9-C46F-4DD6-885C-D0268FB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25A-EB4F-44BA-A2FA-C0F4AD02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39E-7AFB-4C11-B539-CDDB2A1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AEA0-A223-4AFC-BE02-95B34712F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C3CA-E8E2-48C2-B32C-BB9B84D992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52320" y="183240"/>
            <a:ext cx="1081080" cy="1797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132400" y="485640"/>
            <a:ext cx="537840" cy="1376280"/>
          </a:xfrm>
          <a:custGeom>
            <a:avLst/>
            <a:gdLst>
              <a:gd name="textAreaLeft" fmla="*/ 0 w 537840"/>
              <a:gd name="textAreaRight" fmla="*/ 538200 w 5378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266760" y="5780160"/>
            <a:ext cx="1229760" cy="774720"/>
            <a:chOff x="266760" y="5780160"/>
            <a:chExt cx="1229760" cy="774720"/>
          </a:xfrm>
        </p:grpSpPr>
        <p:sp>
          <p:nvSpPr>
            <p:cNvPr id="50" name="Freeform 11"/>
            <p:cNvSpPr/>
            <p:nvPr/>
          </p:nvSpPr>
          <p:spPr>
            <a:xfrm>
              <a:off x="287280" y="5793840"/>
              <a:ext cx="1191600" cy="6411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79520" y="5870880"/>
              <a:ext cx="77400" cy="127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82960" y="6061320"/>
              <a:ext cx="866880" cy="4032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01040" y="6094800"/>
              <a:ext cx="574560" cy="3679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2000" y="5821560"/>
              <a:ext cx="147600" cy="1191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963720" y="6443280"/>
              <a:ext cx="82080" cy="1116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12880" y="5895360"/>
              <a:ext cx="210960" cy="378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992160" y="5878800"/>
              <a:ext cx="398160" cy="1713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40800" y="5980320"/>
              <a:ext cx="169560" cy="6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66960"/>
                <a:gd name="textAreaBottom" fmla="*/ 66960 h 669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266760" y="5780160"/>
              <a:ext cx="1229760" cy="769320"/>
              <a:chOff x="266760" y="5780160"/>
              <a:chExt cx="1229760" cy="76932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07120" y="5851080"/>
                <a:ext cx="599760" cy="698400"/>
                <a:chOff x="807120" y="5851080"/>
                <a:chExt cx="599760" cy="69840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07120" y="5876640"/>
                  <a:ext cx="172440" cy="8568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955440" y="6417000"/>
                  <a:ext cx="126000" cy="13248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358640" y="5851080"/>
                  <a:ext cx="48240" cy="1148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344160" y="6017760"/>
                <a:ext cx="650880" cy="2476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545760" y="6170760"/>
                <a:ext cx="266760" cy="1458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79480" y="5967360"/>
                <a:ext cx="117000" cy="234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266760" y="5780160"/>
                <a:ext cx="1229760" cy="668880"/>
                <a:chOff x="266760" y="5780160"/>
                <a:chExt cx="1229760" cy="6688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993240" y="6328800"/>
                  <a:ext cx="82080" cy="853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266760" y="6014160"/>
                  <a:ext cx="922320" cy="43488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378360" y="6055560"/>
                  <a:ext cx="87480" cy="16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52400" y="5780160"/>
                  <a:ext cx="352080" cy="58536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585360"/>
                    <a:gd name="textAreaBottom" fmla="*/ 585720 h 5853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893880" y="5938200"/>
                  <a:ext cx="104760" cy="2466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619920" y="5917680"/>
                  <a:ext cx="210960" cy="1328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981360" y="5827320"/>
                  <a:ext cx="515160" cy="208080"/>
                </a:xfrm>
                <a:custGeom>
                  <a:avLst/>
                  <a:gdLst>
                    <a:gd name="textAreaLeft" fmla="*/ 0 w 515160"/>
                    <a:gd name="textAreaRight" fmla="*/ 515520 w 515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045800" y="5893920"/>
                  <a:ext cx="267840" cy="85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269120" y="110520"/>
            <a:ext cx="2428560" cy="2248560"/>
            <a:chOff x="7269120" y="11052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269120" y="110520"/>
              <a:ext cx="2428560" cy="2248560"/>
              <a:chOff x="7269120" y="11052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718480" y="191988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269120" y="110520"/>
                <a:ext cx="2428560" cy="2248560"/>
                <a:chOff x="7269120" y="11052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981560" y="30960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115480" y="72108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813440" y="48276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880400" y="16776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510760" y="161892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437680" y="147420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011800" y="53028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955280" y="41868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829280" y="32976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F20-7C7A-45B3-AE04-82CE2A4BBF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86040" y="2184120"/>
            <a:ext cx="586728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chnology for Educators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July 6, 2010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UNCH BREAK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54160"/>
            <a:ext cx="4618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begins at 11:45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t your computer station no later than 12:2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 help during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5" descr="j0232101"/>
          <p:cNvPicPr/>
          <p:nvPr/>
        </p:nvPicPr>
        <p:blipFill>
          <a:blip r:embed="rId1"/>
          <a:stretch/>
        </p:blipFill>
        <p:spPr>
          <a:xfrm>
            <a:off x="5403960" y="2235240"/>
            <a:ext cx="28288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lug-in Explor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6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 two or three specific plug-ins with the goal of possible instructional use in the classroom or student tool for completing a pro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is tool be useful as you work with class and families? Plan to share your ideas tomorrow morn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xt steps - WebQu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0920" y="1828440"/>
            <a:ext cx="778824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eb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  http://questgarden.com/85/80/8/090801155939/ (grade 4) http://questgarden.com/80/57/0/090421160455/  (grades 3-5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questgarden.com/author/examplestop.ph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8040" y="380520"/>
            <a:ext cx="77565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lanning for tomorrow’s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625760"/>
            <a:ext cx="73738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WebQuest templat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lesson you would like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ntent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possible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ays you can incorporate one or two plu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"/>
          <p:cNvGraphicFramePr/>
          <p:nvPr/>
        </p:nvGraphicFramePr>
        <p:xfrm>
          <a:off x="4809960" y="5021280"/>
          <a:ext cx="2319480" cy="183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960" y="5021280"/>
                    <a:ext cx="23194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"/>
          <p:cNvGraphicFramePr/>
          <p:nvPr/>
        </p:nvGraphicFramePr>
        <p:xfrm>
          <a:off x="6746760" y="4960800"/>
          <a:ext cx="2397240" cy="18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6760" y="4960800"/>
                    <a:ext cx="239724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79360"/>
            <a:ext cx="6870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roup debrief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4040" y="1236240"/>
            <a:ext cx="5238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whole group by brainst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highlights on class wiki discussion tab at http://techeducators2010.wikispaces.com/Instructional+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1" descr="Child writing"/>
          <p:cNvPicPr/>
          <p:nvPr/>
        </p:nvPicPr>
        <p:blipFill>
          <a:blip r:embed="rId1"/>
          <a:stretch/>
        </p:blipFill>
        <p:spPr>
          <a:xfrm flipH="1">
            <a:off x="5824080" y="2184480"/>
            <a:ext cx="271476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l About th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3080"/>
            <a:ext cx="7696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ki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echeducators2010.wikispaces.com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One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for tomorrow’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for thi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7920" y="282600"/>
            <a:ext cx="77565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Overview of today’s activitie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1680" y="1604880"/>
            <a:ext cx="85122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Rank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ou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to share developing uni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individual wikispace and upload unit PPT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rief with team collabo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head to tomorrow’s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2680" y="744120"/>
            <a:ext cx="7688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Who we are . . . introduction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2545920"/>
            <a:ext cx="377676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ents with Word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venger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urse Wik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one lesson—digital or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y’s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Content Placeholder 4" descr=""/>
          <p:cNvPicPr/>
          <p:nvPr/>
        </p:nvPicPr>
        <p:blipFill>
          <a:blip r:embed="rId1"/>
          <a:srcRect l="0" t="0" r="0" b="2761"/>
          <a:stretch/>
        </p:blipFill>
        <p:spPr>
          <a:xfrm>
            <a:off x="4610160" y="2282760"/>
            <a:ext cx="3771720" cy="2749680"/>
          </a:xfrm>
          <a:prstGeom prst="rect">
            <a:avLst/>
          </a:prstGeom>
          <a:ln w="9360">
            <a:solidFill>
              <a:srgbClr val="bf0000"/>
            </a:solidFill>
            <a:miter/>
          </a:ln>
        </p:spPr>
      </p:pic>
      <p:sp>
        <p:nvSpPr>
          <p:cNvPr id="210" name="AutoShape 2"/>
          <p:cNvSpPr/>
          <p:nvPr/>
        </p:nvSpPr>
        <p:spPr>
          <a:xfrm>
            <a:off x="2095560" y="6010200"/>
            <a:ext cx="6573600" cy="418320"/>
          </a:xfrm>
          <a:prstGeom prst="bracketPair">
            <a:avLst>
              <a:gd name="adj" fmla="val 8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tp://techeducators2010.wikispaces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5316480" y="2459160"/>
            <a:ext cx="3014640" cy="273600"/>
          </a:xfrm>
          <a:prstGeom prst="bracketPair">
            <a:avLst>
              <a:gd name="adj" fmla="val 8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Verdana"/>
              </a:rPr>
              <a:t>htt</a:t>
            </a:r>
            <a:r>
              <a:rPr b="1" i="1" lang="en-US" sz="800" spc="-1" strike="noStrike">
                <a:solidFill>
                  <a:srgbClr val="000000"/>
                </a:solidFill>
                <a:latin typeface="Verdana"/>
              </a:rPr>
              <a:t>p://techeducators2010.wikispaces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mplications of web 2.0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29960"/>
            <a:ext cx="377208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imperative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vimeo.com/44299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objectives in educ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camppbworks2010.pbworks.com/f/web20%20next%20generation%20image.jpg"/>
          <p:cNvPicPr/>
          <p:nvPr/>
        </p:nvPicPr>
        <p:blipFill>
          <a:blip r:embed="rId1"/>
          <a:stretch/>
        </p:blipFill>
        <p:spPr>
          <a:xfrm>
            <a:off x="4503600" y="1930320"/>
            <a:ext cx="4135680" cy="387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3"/>
          <p:cNvGraphicFramePr/>
          <p:nvPr/>
        </p:nvGraphicFramePr>
        <p:xfrm>
          <a:off x="2630520" y="5353200"/>
          <a:ext cx="1281240" cy="101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0520" y="5353200"/>
                    <a:ext cx="12812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63240"/>
            <a:ext cx="814536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at does this mean for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6760" y="1472760"/>
            <a:ext cx="76532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’ needs in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 and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urriculum and i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ual Ranking 1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rank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s pairs in completing the rank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Visual Ranking introductory page for teaching strategies and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ossibilities for us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eb 2.0 Plug-i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gster poster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 Educator plugi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avorite two or three plu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to incorporate plug-ins for instructional purposes and/or stud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4:59:05Z</dcterms:created>
  <dc:creator>jeanne butcher</dc:creator>
  <dc:description/>
  <dc:language>en-US</dc:language>
  <cp:lastModifiedBy>jeanne</cp:lastModifiedBy>
  <dcterms:modified xsi:type="dcterms:W3CDTF">2010-07-05T01:22:03Z</dcterms:modified>
  <cp:revision>59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